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3C61-F4EA-4A89-AC51-33CD59DD0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FF19-1260-43C0-83E2-4CCE81F9D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A53-FB96-4CEB-A3A3-36E39783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2F9-C876-4027-9800-5DA13F86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E73-C04A-4DBC-B129-A1571AE7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B0C-4A3B-40B4-8CC0-83968BFD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BE35-9C11-4398-957A-2FDEAF7E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C71C-B6BE-42C8-B657-6D2C58C7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A427-3650-4220-B77D-4FE5B513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7A0C-ED9A-4EBE-B049-7388A3A2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5E52-DFEA-4733-8342-B628563A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3B7E-F928-470C-904D-68B12DDF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2FF7-23AD-41A9-A131-9835C2EA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916-50D9-48B8-9CC2-3E734CE2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4528-C060-45B8-BBDC-9304D6C9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C059-B8EE-4A68-B7E6-A0907847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703F-CA88-46B8-8DAC-05CA3D7C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2A3E-3124-4810-B246-BCCFE1EE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EDFB-B415-44F3-BC2C-F6E50A66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155D-AA14-4123-BB8E-F85D6E05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7708-32BA-4304-82EF-8E6A6AC2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F34E-AC3C-4FBA-B215-10F9B321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3E10-FEB4-4B16-8C4F-A9F5FD40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C4C6-AF6D-4F3F-8C1B-1331B7D8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CA8-4129-45DD-9299-EB008849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CC42-82AD-4D7E-8780-8C6C1836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A053-F7FA-4DD8-985F-B2A9739D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7955-99A0-450C-97A0-A5B416A8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0622A-DEB4-4DE3-80C6-60FCE2D5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08DC-4530-4C81-8333-7F824B03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7DA3-7B5C-448A-B77C-D0CB1BA4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8FC1-8005-4EB7-8329-BC83D2F9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45C1F-D4AE-42A2-95C0-E868372A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EADD8-7FF1-4AD1-BACF-1412E15D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71D0B-4DD5-4964-AB10-C2C747C2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C33-AEF9-48F2-A854-83F4F3A9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CD0E-7A43-46BE-978A-ADB4301D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808B-A691-4969-91CD-C83FF343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7F1E5-5613-43CD-814A-06239D9B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98E3F-32BD-4710-8FE7-62DCE34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3E54C-EFF0-4B17-8765-684F2AC6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2022-37CB-4F40-8937-529C0604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986B9-EB2E-4673-9940-F25DD014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9420B-0103-4F21-9B8F-39FFD637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E343-3689-42DA-97A5-89409B04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B1E-9364-4FE6-8813-6B8B9AB1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1BC-70F0-4F8C-ADB5-7DA94665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BCB-3F61-422E-90FF-534803C2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674-3E71-43CE-AD46-9DAE1819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F87-8C4F-483C-8292-42284A0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AF62-1405-4A29-85AB-61AAAE96218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FBF1-9D6D-4221-8CB0-A353C6A28A3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CD93-B489-4BEE-9400-5E0C503BD81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7DA1-CBBB-499A-9EF8-B3710C65E1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alibri"/>
              </a:rPr>
              <a:t>Me llamo __________            Clase 8IM</a:t>
            </a:r>
            <a:br>
              <a:rPr sz="3600"/>
            </a:br>
            <a:r>
              <a:rPr b="0" lang="en-US" sz="3600" spc="-1" strike="noStrike">
                <a:solidFill>
                  <a:srgbClr val="009dd9"/>
                </a:solidFill>
                <a:latin typeface="Calibri"/>
              </a:rPr>
              <a:t>La fecha es el 20 de marzo del 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Propósito # 36: </a:t>
            </a:r>
            <a:r>
              <a:rPr b="0" lang="es-ES_tradnl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¿ Que te gusta hacer  en el balneario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ctividad Inicial: Make a list of some of the things that you take when you go to the beach with your family or frien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5000" spc="-1" strike="noStrike">
                <a:solidFill>
                  <a:srgbClr val="04617b"/>
                </a:solidFill>
                <a:latin typeface="Calibri"/>
              </a:rPr>
              <a:t>Prác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¿Si o n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Constantia"/>
              </a:rPr>
              <a:t>Un balneario tiene play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Constantia"/>
              </a:rPr>
              <a:t>Hay olas en una pisci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Constantia"/>
              </a:rPr>
              <a:t>El mediterráneo es un mar y el Atlántico es un océan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Constantia"/>
              </a:rPr>
              <a:t>Todo el mundo quiere ir a la playa cuando llueve o hay nub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Constantia"/>
              </a:rPr>
              <a:t>Es importante usar una crema protectora cuando uno toma el sol. Da protección contra el s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Constantia"/>
              </a:rPr>
              <a:t>Una persona lleva un traje de baño cuando juega ten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area #3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book P. 53,54, 5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paso de la tare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457200" y="14479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Times New Roman"/>
              </a:rPr>
              <a:t>Fill in the bl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1.Durante el verano, a Juan le gusta ir a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.  2.Le gusta mucho el so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y prefiere ir cuando hace mucha 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. 3.Cuando va con sus amig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se lleva la 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para jugar en la playa. 4.A su amiga María no 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le gusta el sol y para protegerse lleva la 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. 5. También  llev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y 6. los 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.7. A Juan 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gusta nadar en el 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, 8. pero a Maria le gusta nadar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. 9. Despues de nadar, los dos se sientan a descansar en 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. 10. A Juan y Maria les gustan mucho el buen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que hace en el 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alibri"/>
              </a:rPr>
              <a:t>EL BALNEARI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7" descr="http://t2.gstatic.com/images?q=tbn:ANd9GcSqeqfIzhi9HNKkFcBbEhnN5zwruy8LeWFg-IMVpHP_v_KF7fY0KIsqy7IS"/>
          <p:cNvPicPr/>
          <p:nvPr/>
        </p:nvPicPr>
        <p:blipFill>
          <a:blip r:embed="rId1"/>
          <a:stretch/>
        </p:blipFill>
        <p:spPr>
          <a:xfrm>
            <a:off x="990720" y="1447920"/>
            <a:ext cx="68608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alibri"/>
              </a:rPr>
              <a:t>El buce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5724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57240" y="-89676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3" descr="http://t1.gstatic.com/images?q=tbn:ANd9GcS1Da1fwJ7SwllCZdjE12-Tb0Hfq-2PnCfLZ8ApJm1Qxm-aSDxTpQ"/>
          <p:cNvPicPr/>
          <p:nvPr/>
        </p:nvPicPr>
        <p:blipFill>
          <a:blip r:embed="rId1"/>
          <a:stretch/>
        </p:blipFill>
        <p:spPr>
          <a:xfrm>
            <a:off x="203040" y="2209680"/>
            <a:ext cx="3764160" cy="28195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9"/>
          <p:cNvSpPr/>
          <p:nvPr/>
        </p:nvSpPr>
        <p:spPr>
          <a:xfrm>
            <a:off x="4724280" y="2590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Cuando voy al balneario, me gusta mucho bucear. Es muy divertid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Calibri"/>
              </a:rPr>
              <a:t>La plancha de ve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1752480" y="54864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9dd9"/>
                </a:solidFill>
                <a:latin typeface="Times New Roman"/>
              </a:rPr>
              <a:t>Cuando voy al balneario, me gusta practicar la plancha de v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57240" y="-1255680"/>
            <a:ext cx="1762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57240" y="-888840"/>
            <a:ext cx="1218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57240" y="-1255680"/>
            <a:ext cx="1762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6" descr="http://t1.gstatic.com/images?q=tbn:ANd9GcS9AueqC5_6JSbon7yh35bRvVxa-Hvrfpuz3g4QZ_A1dBofnmfR"/>
          <p:cNvPicPr/>
          <p:nvPr/>
        </p:nvPicPr>
        <p:blipFill>
          <a:blip r:embed="rId1"/>
          <a:stretch/>
        </p:blipFill>
        <p:spPr>
          <a:xfrm>
            <a:off x="457200" y="1600200"/>
            <a:ext cx="39337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Calibri"/>
              </a:rPr>
              <a:t>La tabla hawaia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1676520" y="54864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9dd9"/>
                </a:solidFill>
                <a:latin typeface="Times New Roman"/>
              </a:rPr>
              <a:t>Cuando voy al balneario, me gusta practicar la tabla hawa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7240" y="-89676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10" descr="http://t2.gstatic.com/images?q=tbn:ANd9GcQDJaersmBBEOTRJatAlpBBnEvMh370HanFJPHFFVqzDW4-6FxN"/>
          <p:cNvPicPr/>
          <p:nvPr/>
        </p:nvPicPr>
        <p:blipFill>
          <a:blip r:embed="rId1"/>
          <a:stretch/>
        </p:blipFill>
        <p:spPr>
          <a:xfrm>
            <a:off x="533520" y="1219320"/>
            <a:ext cx="40384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Calibri"/>
              </a:rPr>
              <a:t>El esquí acuát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533520" y="54864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9dd9"/>
                </a:solidFill>
                <a:latin typeface="Times New Roman"/>
              </a:rPr>
              <a:t>Cuando voy al balneario, me gusta practicar el esquí acuático (esquiar en el agu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57240" y="-1109520"/>
            <a:ext cx="2000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57240" y="-988920"/>
            <a:ext cx="22381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0" descr="http://t1.gstatic.com/images?q=tbn:ANd9GcS-1D9y142n_1HMC-Ckt0eSGs6NCBr6dMc4chnADzBRrra0oqlFhA"/>
          <p:cNvPicPr/>
          <p:nvPr/>
        </p:nvPicPr>
        <p:blipFill>
          <a:blip r:embed="rId1"/>
          <a:stretch/>
        </p:blipFill>
        <p:spPr>
          <a:xfrm>
            <a:off x="228600" y="20574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Calibri"/>
              </a:rPr>
              <a:t>Vamos al balneari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57240" y="-1109520"/>
            <a:ext cx="2000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7240" y="-988920"/>
            <a:ext cx="22381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9"/>
          <p:cNvSpPr/>
          <p:nvPr/>
        </p:nvSpPr>
        <p:spPr>
          <a:xfrm>
            <a:off x="380880" y="2286000"/>
            <a:ext cx="6324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533520" y="1828800"/>
            <a:ext cx="7924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going to spend 3 days in a resort, but there are a couple of things that you need in order to be prepared. You go to a store to buy the items needed. Work with a partner (one is the clerk and will be the shopp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uccessful dialogue between the shopper and the clerk where shopper gets everything he or she w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5000" spc="-1" strike="noStrike">
                <a:solidFill>
                  <a:srgbClr val="04617b"/>
                </a:solidFill>
                <a:latin typeface="Calibri"/>
              </a:rPr>
              <a:t>¿Te gusta jugar al tenis en el balneario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Picture 2" descr="http://4.bp.blogspot.com/_q2wZV56iQek/SCPDaJM6vdI/AAAAAAAAAME/JlgO1JljUn0/S1600-R/tenis-.jpg"/>
          <p:cNvPicPr/>
          <p:nvPr/>
        </p:nvPicPr>
        <p:blipFill>
          <a:blip r:embed="rId1"/>
          <a:stretch/>
        </p:blipFill>
        <p:spPr>
          <a:xfrm>
            <a:off x="1981080" y="2286000"/>
            <a:ext cx="5232600" cy="3924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7010280" y="1066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cancha de te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Straight Arrow Connector 6"/>
          <p:cNvCxnSpPr/>
          <p:nvPr/>
        </p:nvCxnSpPr>
        <p:spPr>
          <a:xfrm flipH="1">
            <a:off x="6781320" y="1523520"/>
            <a:ext cx="1372320" cy="2667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8" name="TextBox 7"/>
          <p:cNvSpPr/>
          <p:nvPr/>
        </p:nvSpPr>
        <p:spPr>
          <a:xfrm>
            <a:off x="15228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raqu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Straight Arrow Connector 12"/>
          <p:cNvCxnSpPr/>
          <p:nvPr/>
        </p:nvCxnSpPr>
        <p:spPr>
          <a:xfrm flipV="1">
            <a:off x="1371240" y="4799880"/>
            <a:ext cx="2134440" cy="1677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0" name="TextBox 13"/>
          <p:cNvSpPr/>
          <p:nvPr/>
        </p:nvSpPr>
        <p:spPr>
          <a:xfrm>
            <a:off x="22860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pel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Straight Arrow Connector 15"/>
          <p:cNvCxnSpPr/>
          <p:nvPr/>
        </p:nvCxnSpPr>
        <p:spPr>
          <a:xfrm flipV="1">
            <a:off x="1600200" y="3428640"/>
            <a:ext cx="2286720" cy="534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2" name="TextBox 17"/>
          <p:cNvSpPr/>
          <p:nvPr/>
        </p:nvSpPr>
        <p:spPr>
          <a:xfrm>
            <a:off x="6858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Straight Arrow Connector 19"/>
          <p:cNvCxnSpPr/>
          <p:nvPr/>
        </p:nvCxnSpPr>
        <p:spPr>
          <a:xfrm>
            <a:off x="1447560" y="2286000"/>
            <a:ext cx="1448280" cy="838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4" name="TextBox 20"/>
          <p:cNvSpPr/>
          <p:nvPr/>
        </p:nvSpPr>
        <p:spPr>
          <a:xfrm>
            <a:off x="1905120" y="1447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Straight Arrow Connector 24"/>
          <p:cNvCxnSpPr/>
          <p:nvPr/>
        </p:nvCxnSpPr>
        <p:spPr>
          <a:xfrm>
            <a:off x="2819160" y="1828800"/>
            <a:ext cx="2515320" cy="1905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Leandy</cp:lastModifiedBy>
  <dcterms:modified xsi:type="dcterms:W3CDTF">2012-03-20T18:21:55Z</dcterms:modified>
  <cp:revision>68</cp:revision>
  <dc:subject/>
  <dc:title>Me llamo __________            Clase 7IM La fecha es el 14 de septiembre del 2011</dc:title>
</cp:coreProperties>
</file>